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CFEE-CAD8-484E-8B41-659A154E216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05A2-F79B-4C55-BD62-97890F7A658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ytištěná žádost o platbu vypadá asi takto. Stačí kliknout na obrázek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E28D-6734-40A5-B189-1C542DF86B2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C684-2257-4FDB-9D04-EF5A06FC806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Jen pro info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mé výdaje: 8 684 211 K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přímé výdaje: 1 215 789 K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jemci akceptovali Rozhodnutí až 13.5., ale aby jim to hezky vycházelo, nastavili si monitorované období od 1.5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ACDB-42BE-4874-9766-61C36B19CC4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1. Které výdaje budou zapsány v Soupisce účetních dokladů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2. Jaké budou doloženy doklady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3. Jaká částka bude požadována v žádosti o platbu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kup notebooku-časově nezpůsobilé- uhrazeno před zahájením realizace projekt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evod nepřímých nákladů- nebude v soupisce, do soupisky se dávají jen přímé výdaj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bytek- křížové financování neinvestiční- bude v soupisc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y za květen-bude v soupisce,ale uznatelná jen příslušná část (začali realizovat 13.5.2010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ateřská- typický nezpůsobilý výdaj (PpP str. 65)- pokud si včas uvědomí chybu, nebudou požadovat proplacení v Soupisce a výdaj na projektový účet vrátí, je to MYLNÁ platbu. Pokud si chybu neuvědomí a výdaj zahrnou do Soupisky účetních dokladů, bude jim žop o tuto částku krácena. V našem případě se jedná o první variantu, mylnou platb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Cestovní náhrady tuzemské- nepřímý výdaj- nebude zahrnut do soupisky účetních dokladů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60F4-DB63-4C5C-A9EA-6C9C5A3F950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kup letenky- časově nesouvisí s monitorovaným obdobím, bude zahrnut až v MO, kdy se cesta uskuteční (stejně by nám teď nemohli dodat zprávu ze služební cesty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ftware- investiční výdaj- bude v zahrnut do soupisk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bule- křížové financování investiční- bude zahrnuto do soupisk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Literatura – bude zahrnuta v soupisce, z provozního účtu odešlo v MO (částka uvedená na dokladu 12 154 Kč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y červenec- nebude zahrnuto v soupisce, z provozního účtu neodešlo v MO, zahrnou je do další MZ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B48D-8BBE-4239-998C-CDDAB5D98F6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prvním kroku jste si ujasnili, co bude v soupisce. Teď postupně soupisku vyplňujeme a zamýšlíme se nad tím, jaké doklady budou potřeb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kup nábytku- účetní doklad (faktur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y- potřebujeme pracovní smlouvy, výplatní listiny, výpis z projektového účtu (popř. i provozního), pracovní výkazy, rozpis mzdových nákladů,… (opakování matka moudrosti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ftware- účetní doklad (faktur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bule- účetní doklad (faktur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dborná literatura- účetní doklad (výdajový pokladní doklad)- Částka uvedená na dokladu- 12 154 Kč, pro projekt jen 1 500 Kč. Bude tento doklad doložen? Bude, protože částka uvedená na dokladu je nad 10 tis Kč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Calibri"/>
              </a:rPr>
              <a:t>Nakonec uspořádat soupisku dle čísel kapitoly.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Je jedno, zda soupisku nejprve očíslují a pak srovnají, nebo nejprve srovnají a pak očíslují. Důležité je, aby pořadová čísla výdajů byla uvedená (dopsaná) na dokladech či na výpisu z účtu. My jsme to očíslovali a pak srovnali (další slaj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CA31-5CCA-4F8B-8BD2-A30B62D8186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sleduje promítnutí soupisku účetních dokladů v Excelu a vysvětlení jak ji dovyplnit a jak jsou nastaveny vzorce. Stačí kliknout na oranžovou ikonku při spuštěné prezentac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Celkem přímé náklady: 207 651 Kč,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plňujeme žlutá pole: Křížové financování 100 000 Kč, KF investiční 85 000 K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cento NN: 14 %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Úroky na projektovém účtu: 169 K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jde nám (vpravo): 222 533,14 K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tuto dobu jim rozdáme vytištěnou a doplněnou soupisk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FA51-3F47-47A5-A465-B0951659D58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še NN dle Rozhodnutí o poskytnutí dotace- vypočteno jako procento z celkových způsobilých výdajů projektu (v Kč), v našem případě je to 1 215 789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Calibri"/>
              </a:rPr>
              <a:t>Dosud prokazované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je nula, protože se jedná o první monitorovací zprávu. V druhé monitorovací zprávě zde bude 99 771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Calibri"/>
              </a:rPr>
              <a:t>Aktuálně prokazované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– 99 771 Kč (tj. 99 tis převedeno na provozní účet, 421 Kč cestovné tuzemské, 350 Kč bankovní poplatky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3743-4C98-478D-AC88-C0EB218BE50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mítnutí výpisu z účtu s popisem (doplněna pořadová čísla výdajů, označení mylné platby i NN,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tačí kliknout na tlačítko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25E4-95BF-4A36-8C03-B7B21A58934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 kliknutí na ikonku se otevře testovací aplikace Benefit 7+. Přihlaste se: dana.mihulkova@msmt.cz, heslo: workshop. Pak Konto projektů -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Nepřímé náklady test -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 žádost o platbu. Založíme NOVÝ ZÁZNAM a ULOŽÍME. Vytvořil se další řádek s žádostí o platbu a je ve stavu „založený“. Následně klikneme na tlačítko Načíst data z Monit7+ a zase uložíme. Pak postupně vyplňujeme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Typ žádost: ex-an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Číslo účtu- na výběr je jen jedno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řadí finančního plánu- neměnit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Výdaje (klasifikace platby předfinancování). Předpokládejme, že příjemci požadují zaslat jen neinvestiční peníze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Celkové výdaje: 222 553,14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Celkové způsobilé výdaje investiční: 0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žadovaná částka investiční: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Celkem způsobilé výdaje neinvestiční: 222 553,14 Kč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žadovaná částka dotace neinvestiční: 222 553,14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ULOŽIT (dopočítají se součtové částky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Specifické výdaje: NN: 15 071,14 Kč (vychází to ze soupisky); Příjmy nevyplňovat; Zdůvodnění platby: kladné úroky 169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Vyúčtování vynaložených výdajů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Celkové způsobilé výdaje- investiční: 150 000 Kč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Celkové způsobilé výdaje- neinvestiční: 72 553,14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Investiční  zp. výdaje v rámci KF: 85 000 Kč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Neinvestiční zp. výdaje v rámci KF: 15 000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žadovaná částka dotace- investice: 150 000 Kč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žadovaná částka dotace- neinvestice: 72 553,14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Investiční  zp. výdaje v rámci KF: 85 000 Kč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Neinvestiční zp. výdaje v rámci KF: 15 000 Kč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ULOŽÍM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otom jdeme na záložky </a:t>
            </a:r>
            <a:r>
              <a:rPr b="0" i="1" lang="cs-CZ" sz="800" spc="-1" strike="noStrike">
                <a:solidFill>
                  <a:srgbClr val="000000"/>
                </a:solidFill>
                <a:latin typeface="Calibri"/>
              </a:rPr>
              <a:t>Přílohy žádosti o platbu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a zaškrtneme nerelevantní a uložíme, pak klikneme na druhou přílohu, zaškrtneme nerelevantní a uložíme. Připomene příjemcům, že oni tam přílohy nahrávají- Soupisku, přehled čerpání, Rozpis mzdových nákladů, cestovních nákladů, odpisů, mzdových příspěvků,.. Prostě přílohy, ve kterých jsou uváděny peníze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ak můžeme žop finalizovat. Pokud není předchozí žop schválena, nepůjde tato finalizovat, ale jediná chyba, kterou to bude hlásit, bude tato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Doporučuji vyzkoušet si vše předem!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Není možné popsat všechny situace na jednu stránku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Abychom mohli ukázat storno finalizace, je potřeba přihlásit se do testovacího Monitu (projekt je jen u mě, takže mihdan, heslo: Abcd1234), žádost o platbu, změna stavu, vrácena k dopracování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Pak opět v test. Benefitu- přihlaste se: dana.mihulkova@msmt.cz, heslo: workshop. Pak Konto projektů -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Nepřímé náklady test -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 žádost o platbu, vybereme tu, která je ve stavu vrácena k dopracování a vlevo je storno finalizac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5BA0-E61B-4F90-A00B-5311E4E0103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raktický mod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 – t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lačítko akce: Dokument 11"/>
          <p:cNvSpPr/>
          <p:nvPr/>
        </p:nvSpPr>
        <p:spPr>
          <a:xfrm>
            <a:off x="4284720" y="3335400"/>
            <a:ext cx="1111320" cy="1333440"/>
          </a:xfrm>
          <a:custGeom>
            <a:avLst/>
            <a:gdLst>
              <a:gd name="textAreaLeft" fmla="*/ 72000 w 1111320"/>
              <a:gd name="textAreaRight" fmla="*/ 1039320 w 1111320"/>
              <a:gd name="textAreaTop" fmla="*/ 72000 h 1333440"/>
              <a:gd name="textAreaBottom" fmla="*/ 1261440 h 1333440"/>
            </a:gdLst>
            <a:ahLst/>
            <a:rect l="textAreaLeft" t="textAreaTop" r="textAreaRight" b="textAreaBottom"/>
            <a:pathLst>
              <a:path w="21600" h="25916">
                <a:moveTo>
                  <a:pt x="0" y="0"/>
                </a:moveTo>
                <a:lnTo>
                  <a:pt x="21600" y="0"/>
                </a:lnTo>
                <a:lnTo>
                  <a:pt x="21600" y="25916"/>
                </a:lnTo>
                <a:lnTo>
                  <a:pt x="0" y="25916"/>
                </a:lnTo>
                <a:close/>
              </a:path>
              <a:path fill="lightenLess" w="21600" h="259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6">
                <a:moveTo>
                  <a:pt x="21600" y="0"/>
                </a:moveTo>
                <a:lnTo>
                  <a:pt x="21600" y="25916"/>
                </a:lnTo>
                <a:lnTo>
                  <a:pt x="20200" y="24516"/>
                </a:lnTo>
                <a:lnTo>
                  <a:pt x="20200" y="1400"/>
                </a:lnTo>
                <a:close/>
              </a:path>
              <a:path fill="darkenLess" w="21600" h="25916">
                <a:moveTo>
                  <a:pt x="21600" y="25916"/>
                </a:moveTo>
                <a:lnTo>
                  <a:pt x="0" y="25916"/>
                </a:lnTo>
                <a:lnTo>
                  <a:pt x="1400" y="24516"/>
                </a:lnTo>
                <a:lnTo>
                  <a:pt x="20200" y="24516"/>
                </a:lnTo>
                <a:close/>
              </a:path>
              <a:path fill="lighten" w="21600" h="25916">
                <a:moveTo>
                  <a:pt x="0" y="259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6"/>
                </a:lnTo>
                <a:close/>
              </a:path>
              <a:path fill="darkenLess" w="21600" h="25916">
                <a:moveTo>
                  <a:pt x="5273" y="6143"/>
                </a:moveTo>
                <a:lnTo>
                  <a:pt x="12271" y="6143"/>
                </a:lnTo>
                <a:lnTo>
                  <a:pt x="16327" y="9642"/>
                </a:lnTo>
                <a:lnTo>
                  <a:pt x="16327" y="19773"/>
                </a:lnTo>
                <a:lnTo>
                  <a:pt x="5273" y="19773"/>
                </a:lnTo>
                <a:close/>
              </a:path>
              <a:path fill="darken" w="21600" h="25916">
                <a:moveTo>
                  <a:pt x="12271" y="6143"/>
                </a:moveTo>
                <a:lnTo>
                  <a:pt x="16327" y="9642"/>
                </a:lnTo>
                <a:lnTo>
                  <a:pt x="12271" y="9642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text 3"/>
          <p:cNvSpPr/>
          <p:nvPr/>
        </p:nvSpPr>
        <p:spPr>
          <a:xfrm>
            <a:off x="1890720" y="3600360"/>
            <a:ext cx="69786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-mail: tomas.drazny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.: 234 814 2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16621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Fiktiv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text 3"/>
          <p:cNvSpPr/>
          <p:nvPr/>
        </p:nvSpPr>
        <p:spPr>
          <a:xfrm>
            <a:off x="488880" y="1601640"/>
            <a:ext cx="952992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ktivní projekt 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k lepší budouc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ájení realizace: 13. 5.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končení realizace: 30. 4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né období 1. 5. 2010 - 31. 7.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39720" y="3290760"/>
          <a:ext cx="8756640" cy="2378160"/>
        </p:xfrm>
        <a:graphic>
          <a:graphicData uri="http://schemas.openxmlformats.org/drawingml/2006/table">
            <a:tbl>
              <a:tblPr/>
              <a:tblGrid>
                <a:gridCol w="6445440"/>
                <a:gridCol w="2311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Celkové způsobilé výdaje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10 000 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tředky z ES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500 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tředky národního spolufinancování ze státního rozpoč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0 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Křížové financ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100 0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tředky z ES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tředky národního spolufinancování ze státního rozpoč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00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text 3"/>
          <p:cNvSpPr/>
          <p:nvPr/>
        </p:nvSpPr>
        <p:spPr>
          <a:xfrm>
            <a:off x="328680" y="1424160"/>
            <a:ext cx="832968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28. 4. 2010 z provozního účtu nakoupen notebook pro projekt – 21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14. 5. 2010 převedeny nepřímé náklady 99 000 Kč na provozní účet 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25. 5. 2010 zakoupen nábytek pro cílovou skupinu – 3 x 5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13. 6. 2010 úhrada mzdových výdajů- květen ve výši 70 000 Kč,  z projektového účtu refundováno  16. 6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29. 6. 2010 uhrazen příspěvek na mateřskou dovolenou manažerce projektu 7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1. 7. 2010 cestovní náhrady koordinátora projektu na schůzku    s partnerem – jednodenní služební cesta, Zlín- Brno- Zlín, 42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klady výda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4"/>
          <p:cNvSpPr/>
          <p:nvPr/>
        </p:nvSpPr>
        <p:spPr>
          <a:xfrm rot="846000">
            <a:off x="7598880" y="1116000"/>
            <a:ext cx="226872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MO 1. 5. - 31. 7.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text 3"/>
          <p:cNvSpPr/>
          <p:nvPr/>
        </p:nvSpPr>
        <p:spPr>
          <a:xfrm>
            <a:off x="399960" y="1913040"/>
            <a:ext cx="88632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19. 7. 2010 nákup letenky 15 200 Kč na služební cestu zahraniční, která se koná 13. 4. 2011, včasný nákup zajistí nižší c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20. 7. 2010 zakoupen software za jednotkovou cenu 65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20. 7. 2010 zakoupena interaktivní tabule za 85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20. 7. 2010 nákup odborné literatury 1 500 Kč, z projektového účtu refundováno  3. 8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  <a:ea typeface="Lucida Sans Unicode"/>
              </a:rPr>
              <a:t>13. 8. 2010 úhrada mzdových výdajů- červenec 2010, z projektového účtu refundováno  16. 8.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Nadpis 2"/>
          <p:cNvSpPr/>
          <p:nvPr/>
        </p:nvSpPr>
        <p:spPr>
          <a:xfrm>
            <a:off x="28404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íklady výdajů- pokračo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4"/>
          <p:cNvSpPr/>
          <p:nvPr/>
        </p:nvSpPr>
        <p:spPr>
          <a:xfrm rot="1146000">
            <a:off x="7554960" y="1204920"/>
            <a:ext cx="226836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MO 1. 5. - 31. 7.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b3c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54696" r="10517" b="3216"/>
          <a:stretch/>
        </p:blipFill>
        <p:spPr>
          <a:xfrm>
            <a:off x="239760" y="1512720"/>
            <a:ext cx="9494640" cy="9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239760" y="2446200"/>
          <a:ext cx="9690120" cy="517680"/>
        </p:xfrm>
        <a:graphic>
          <a:graphicData uri="http://schemas.openxmlformats.org/drawingml/2006/table">
            <a:tbl>
              <a:tblPr/>
              <a:tblGrid>
                <a:gridCol w="585720"/>
                <a:gridCol w="766800"/>
                <a:gridCol w="585720"/>
                <a:gridCol w="906480"/>
                <a:gridCol w="1662120"/>
                <a:gridCol w="1671840"/>
                <a:gridCol w="711000"/>
                <a:gridCol w="755640"/>
                <a:gridCol w="711360"/>
                <a:gridCol w="577800"/>
                <a:gridCol w="75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0590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ábyte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toly a židle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5.5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Obdélník 8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39760" y="2968560"/>
          <a:ext cx="9690120" cy="944640"/>
        </p:xfrm>
        <a:graphic>
          <a:graphicData uri="http://schemas.openxmlformats.org/drawingml/2006/table">
            <a:tbl>
              <a:tblPr/>
              <a:tblGrid>
                <a:gridCol w="585720"/>
                <a:gridCol w="766800"/>
                <a:gridCol w="585720"/>
                <a:gridCol w="906480"/>
                <a:gridCol w="1662120"/>
                <a:gridCol w="1671840"/>
                <a:gridCol w="711000"/>
                <a:gridCol w="755640"/>
                <a:gridCol w="711360"/>
                <a:gridCol w="577800"/>
                <a:gridCol w="755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zdy 05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1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AP15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.6. 2010 (13.6. 2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39760" y="3914640"/>
          <a:ext cx="9690120" cy="731880"/>
        </p:xfrm>
        <a:graphic>
          <a:graphicData uri="http://schemas.openxmlformats.org/drawingml/2006/table">
            <a:tbl>
              <a:tblPr/>
              <a:tblGrid>
                <a:gridCol w="585720"/>
                <a:gridCol w="766800"/>
                <a:gridCol w="585720"/>
                <a:gridCol w="906480"/>
                <a:gridCol w="1662120"/>
                <a:gridCol w="1671840"/>
                <a:gridCol w="711000"/>
                <a:gridCol w="755640"/>
                <a:gridCol w="711360"/>
                <a:gridCol w="577800"/>
                <a:gridCol w="7556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2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oftware pro tvorbu elearningového prostřed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C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.7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39760" y="4624560"/>
          <a:ext cx="9690120" cy="517320"/>
        </p:xfrm>
        <a:graphic>
          <a:graphicData uri="http://schemas.openxmlformats.org/drawingml/2006/table">
            <a:tbl>
              <a:tblPr/>
              <a:tblGrid>
                <a:gridCol w="585720"/>
                <a:gridCol w="766800"/>
                <a:gridCol w="585720"/>
                <a:gridCol w="906480"/>
                <a:gridCol w="1662120"/>
                <a:gridCol w="1671840"/>
                <a:gridCol w="711000"/>
                <a:gridCol w="755640"/>
                <a:gridCol w="711360"/>
                <a:gridCol w="577800"/>
                <a:gridCol w="75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nteraktivní tabule s příslušenstv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C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.7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39760" y="5146560"/>
          <a:ext cx="9690120" cy="944640"/>
        </p:xfrm>
        <a:graphic>
          <a:graphicData uri="http://schemas.openxmlformats.org/drawingml/2006/table">
            <a:tbl>
              <a:tblPr/>
              <a:tblGrid>
                <a:gridCol w="585720"/>
                <a:gridCol w="766800"/>
                <a:gridCol w="585720"/>
                <a:gridCol w="906480"/>
                <a:gridCol w="1662120"/>
                <a:gridCol w="1671840"/>
                <a:gridCol w="711000"/>
                <a:gridCol w="755640"/>
                <a:gridCol w="711360"/>
                <a:gridCol w="577800"/>
                <a:gridCol w="755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VP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59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Knihkupectví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2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 2010 (20.7. 2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0" t="54696" r="10517" b="3216"/>
          <a:stretch/>
        </p:blipFill>
        <p:spPr>
          <a:xfrm>
            <a:off x="239760" y="1512720"/>
            <a:ext cx="9494640" cy="9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95120" y="5662440"/>
          <a:ext cx="9690120" cy="517680"/>
        </p:xfrm>
        <a:graphic>
          <a:graphicData uri="http://schemas.openxmlformats.org/drawingml/2006/table">
            <a:tbl>
              <a:tblPr/>
              <a:tblGrid>
                <a:gridCol w="586080"/>
                <a:gridCol w="766440"/>
                <a:gridCol w="586080"/>
                <a:gridCol w="906480"/>
                <a:gridCol w="1662120"/>
                <a:gridCol w="1671480"/>
                <a:gridCol w="711360"/>
                <a:gridCol w="755640"/>
                <a:gridCol w="711000"/>
                <a:gridCol w="577800"/>
                <a:gridCol w="75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0590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Nábyte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toly a židle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5.5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Obdélník 8"/>
          <p:cNvSpPr/>
          <p:nvPr/>
        </p:nvSpPr>
        <p:spPr>
          <a:xfrm rot="1146000">
            <a:off x="824508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5120" y="2435400"/>
          <a:ext cx="9690120" cy="944280"/>
        </p:xfrm>
        <a:graphic>
          <a:graphicData uri="http://schemas.openxmlformats.org/drawingml/2006/table">
            <a:tbl>
              <a:tblPr/>
              <a:tblGrid>
                <a:gridCol w="586080"/>
                <a:gridCol w="766440"/>
                <a:gridCol w="586080"/>
                <a:gridCol w="906480"/>
                <a:gridCol w="1662120"/>
                <a:gridCol w="1671480"/>
                <a:gridCol w="711360"/>
                <a:gridCol w="755640"/>
                <a:gridCol w="711000"/>
                <a:gridCol w="577800"/>
                <a:gridCol w="755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zdy 05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1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AP15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.6. 2010 (13.6. 2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5120" y="3360600"/>
          <a:ext cx="9690120" cy="731880"/>
        </p:xfrm>
        <a:graphic>
          <a:graphicData uri="http://schemas.openxmlformats.org/drawingml/2006/table">
            <a:tbl>
              <a:tblPr/>
              <a:tblGrid>
                <a:gridCol w="586080"/>
                <a:gridCol w="766440"/>
                <a:gridCol w="586080"/>
                <a:gridCol w="906480"/>
                <a:gridCol w="1662120"/>
                <a:gridCol w="1671480"/>
                <a:gridCol w="711360"/>
                <a:gridCol w="755640"/>
                <a:gridCol w="711000"/>
                <a:gridCol w="577800"/>
                <a:gridCol w="7556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2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Software pro tvorbu elearningového prostřed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C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6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.7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5120" y="5040360"/>
          <a:ext cx="9690120" cy="517320"/>
        </p:xfrm>
        <a:graphic>
          <a:graphicData uri="http://schemas.openxmlformats.org/drawingml/2006/table">
            <a:tbl>
              <a:tblPr/>
              <a:tblGrid>
                <a:gridCol w="586080"/>
                <a:gridCol w="766440"/>
                <a:gridCol w="586080"/>
                <a:gridCol w="906480"/>
                <a:gridCol w="1662120"/>
                <a:gridCol w="1671480"/>
                <a:gridCol w="711360"/>
                <a:gridCol w="755640"/>
                <a:gridCol w="711000"/>
                <a:gridCol w="577800"/>
                <a:gridCol w="75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nteraktivní tabule s příslušenstv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PC WOR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8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0.7.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95120" y="4079880"/>
          <a:ext cx="9690120" cy="944640"/>
        </p:xfrm>
        <a:graphic>
          <a:graphicData uri="http://schemas.openxmlformats.org/drawingml/2006/table">
            <a:tbl>
              <a:tblPr/>
              <a:tblGrid>
                <a:gridCol w="586080"/>
                <a:gridCol w="766440"/>
                <a:gridCol w="586080"/>
                <a:gridCol w="906480"/>
                <a:gridCol w="1662120"/>
                <a:gridCol w="1671480"/>
                <a:gridCol w="711360"/>
                <a:gridCol w="755640"/>
                <a:gridCol w="711000"/>
                <a:gridCol w="577800"/>
                <a:gridCol w="755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VP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159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Knihkupectví s.r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2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5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8. 2010 (20.7. 20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Šipka dolů 12"/>
          <p:cNvSpPr/>
          <p:nvPr/>
        </p:nvSpPr>
        <p:spPr>
          <a:xfrm>
            <a:off x="1084320" y="668160"/>
            <a:ext cx="133200" cy="978120"/>
          </a:xfrm>
          <a:prstGeom prst="downArrow">
            <a:avLst>
              <a:gd name="adj1" fmla="val 50000"/>
              <a:gd name="adj2" fmla="val 5007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lačítko akce: Dokument 13"/>
          <p:cNvSpPr/>
          <p:nvPr/>
        </p:nvSpPr>
        <p:spPr>
          <a:xfrm>
            <a:off x="550800" y="6357960"/>
            <a:ext cx="666720" cy="888840"/>
          </a:xfrm>
          <a:custGeom>
            <a:avLst/>
            <a:gdLst>
              <a:gd name="textAreaLeft" fmla="*/ 43200 w 666720"/>
              <a:gd name="textAreaRight" fmla="*/ 623520 w 666720"/>
              <a:gd name="textAreaTop" fmla="*/ 43200 h 888840"/>
              <a:gd name="textAreaBottom" fmla="*/ 845640 h 888840"/>
            </a:gdLst>
            <a:ahLst/>
            <a:rect l="textAreaLeft" t="textAreaTop" r="textAreaRight" b="textAreaBottom"/>
            <a:pathLst>
              <a:path w="21600" h="28792">
                <a:moveTo>
                  <a:pt x="0" y="0"/>
                </a:moveTo>
                <a:lnTo>
                  <a:pt x="21600" y="0"/>
                </a:lnTo>
                <a:lnTo>
                  <a:pt x="21600" y="28792"/>
                </a:lnTo>
                <a:lnTo>
                  <a:pt x="0" y="28792"/>
                </a:lnTo>
                <a:close/>
              </a:path>
              <a:path fill="lightenLess" w="21600" h="28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2">
                <a:moveTo>
                  <a:pt x="21600" y="0"/>
                </a:moveTo>
                <a:lnTo>
                  <a:pt x="21600" y="28792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2">
                <a:moveTo>
                  <a:pt x="21600" y="28792"/>
                </a:moveTo>
                <a:lnTo>
                  <a:pt x="0" y="28792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2">
                <a:moveTo>
                  <a:pt x="0" y="28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  <a:path fill="darkenLess" w="21600" h="28792">
                <a:moveTo>
                  <a:pt x="5273" y="7581"/>
                </a:moveTo>
                <a:lnTo>
                  <a:pt x="12271" y="7581"/>
                </a:lnTo>
                <a:lnTo>
                  <a:pt x="16327" y="11080"/>
                </a:lnTo>
                <a:lnTo>
                  <a:pt x="16327" y="21211"/>
                </a:lnTo>
                <a:lnTo>
                  <a:pt x="5273" y="21211"/>
                </a:lnTo>
                <a:close/>
              </a:path>
              <a:path fill="darken" w="21600" h="28792">
                <a:moveTo>
                  <a:pt x="12271" y="7581"/>
                </a:moveTo>
                <a:lnTo>
                  <a:pt x="16327" y="11080"/>
                </a:lnTo>
                <a:lnTo>
                  <a:pt x="12271" y="11080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Nadpis 2"/>
          <p:cNvSpPr/>
          <p:nvPr/>
        </p:nvSpPr>
        <p:spPr>
          <a:xfrm>
            <a:off x="657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0" t="0" r="33706" b="0"/>
          <a:stretch/>
        </p:blipFill>
        <p:spPr>
          <a:xfrm>
            <a:off x="684360" y="1512720"/>
            <a:ext cx="8637480" cy="4143600"/>
          </a:xfrm>
          <a:prstGeom prst="rect">
            <a:avLst/>
          </a:prstGeom>
          <a:ln w="0">
            <a:noFill/>
          </a:ln>
        </p:spPr>
      </p:pic>
      <p:sp>
        <p:nvSpPr>
          <p:cNvPr id="114" name="Obdélník 7"/>
          <p:cNvSpPr/>
          <p:nvPr/>
        </p:nvSpPr>
        <p:spPr>
          <a:xfrm rot="1146000">
            <a:off x="8457840" y="1109520"/>
            <a:ext cx="14670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íloha č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Zaoblený obdélníkový popisek 8"/>
          <p:cNvGrpSpPr/>
          <p:nvPr/>
        </p:nvGrpSpPr>
        <p:grpSpPr>
          <a:xfrm>
            <a:off x="2401920" y="2766960"/>
            <a:ext cx="2468520" cy="1646280"/>
            <a:chOff x="2401920" y="2766960"/>
            <a:chExt cx="2468520" cy="1646280"/>
          </a:xfrm>
        </p:grpSpPr>
        <p:pic>
          <p:nvPicPr>
            <p:cNvPr id="116" name="Zaoblený obdélníkový popisek 8" descr=""/>
            <p:cNvPicPr/>
            <p:nvPr/>
          </p:nvPicPr>
          <p:blipFill>
            <a:blip r:embed="rId2"/>
            <a:stretch/>
          </p:blipFill>
          <p:spPr>
            <a:xfrm>
              <a:off x="2401920" y="2766960"/>
              <a:ext cx="24685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511360" y="2852640"/>
              <a:ext cx="19465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ýše NN dle Rozhodnutí o poskytnutí dot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Zaoblený obdélníkový popisek 9"/>
          <p:cNvGrpSpPr/>
          <p:nvPr/>
        </p:nvGrpSpPr>
        <p:grpSpPr>
          <a:xfrm>
            <a:off x="4535640" y="4492800"/>
            <a:ext cx="4516200" cy="1761840"/>
            <a:chOff x="4535640" y="4492800"/>
            <a:chExt cx="4516200" cy="1761840"/>
          </a:xfrm>
        </p:grpSpPr>
        <p:pic>
          <p:nvPicPr>
            <p:cNvPr id="119" name="Zaoblený obdélníkový popisek 9" descr=""/>
            <p:cNvPicPr/>
            <p:nvPr/>
          </p:nvPicPr>
          <p:blipFill>
            <a:blip r:embed="rId3"/>
            <a:stretch/>
          </p:blipFill>
          <p:spPr>
            <a:xfrm>
              <a:off x="4535640" y="4492800"/>
              <a:ext cx="4516200" cy="17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648320" y="5165640"/>
              <a:ext cx="429552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kutečně vynaložené NN (tzn. odvedené na provozní účet  nebo na výpisu z projektového účtu identifikovány jako N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Obdélník 10"/>
          <p:cNvSpPr/>
          <p:nvPr/>
        </p:nvSpPr>
        <p:spPr>
          <a:xfrm>
            <a:off x="4794840" y="424188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 215 7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délník 10"/>
          <p:cNvSpPr/>
          <p:nvPr/>
        </p:nvSpPr>
        <p:spPr>
          <a:xfrm>
            <a:off x="8145720" y="42242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99 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Výpis z projektového úč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text 3"/>
          <p:cNvSpPr/>
          <p:nvPr/>
        </p:nvSpPr>
        <p:spPr>
          <a:xfrm>
            <a:off x="372960" y="1868400"/>
            <a:ext cx="94680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dentifikace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psat pořadovými čísly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mentovat nejasné pohy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mentovat pohyby nesouvisející s daným obdob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lačítko akce: Dokument 4"/>
          <p:cNvSpPr/>
          <p:nvPr/>
        </p:nvSpPr>
        <p:spPr>
          <a:xfrm>
            <a:off x="4151160" y="4757760"/>
            <a:ext cx="933480" cy="1155600"/>
          </a:xfrm>
          <a:custGeom>
            <a:avLst/>
            <a:gdLst>
              <a:gd name="textAreaLeft" fmla="*/ 60480 w 933480"/>
              <a:gd name="textAreaRight" fmla="*/ 873000 w 933480"/>
              <a:gd name="textAreaTop" fmla="*/ 60480 h 1155600"/>
              <a:gd name="textAreaBottom" fmla="*/ 1095120 h 1155600"/>
            </a:gdLst>
            <a:ahLst/>
            <a:rect l="textAreaLeft" t="textAreaTop" r="textAreaRight" b="textAreaBottom"/>
            <a:pathLst>
              <a:path w="21600" h="26738">
                <a:moveTo>
                  <a:pt x="0" y="0"/>
                </a:moveTo>
                <a:lnTo>
                  <a:pt x="21600" y="0"/>
                </a:lnTo>
                <a:lnTo>
                  <a:pt x="21600" y="26738"/>
                </a:lnTo>
                <a:lnTo>
                  <a:pt x="0" y="26738"/>
                </a:lnTo>
                <a:close/>
              </a:path>
              <a:path fill="lightenLess" w="21600" h="267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738">
                <a:moveTo>
                  <a:pt x="21600" y="0"/>
                </a:moveTo>
                <a:lnTo>
                  <a:pt x="21600" y="26738"/>
                </a:lnTo>
                <a:lnTo>
                  <a:pt x="20200" y="25338"/>
                </a:lnTo>
                <a:lnTo>
                  <a:pt x="20200" y="1400"/>
                </a:lnTo>
                <a:close/>
              </a:path>
              <a:path fill="darkenLess" w="21600" h="26738">
                <a:moveTo>
                  <a:pt x="21600" y="26738"/>
                </a:moveTo>
                <a:lnTo>
                  <a:pt x="0" y="26738"/>
                </a:lnTo>
                <a:lnTo>
                  <a:pt x="1400" y="25338"/>
                </a:lnTo>
                <a:lnTo>
                  <a:pt x="20200" y="25338"/>
                </a:lnTo>
                <a:close/>
              </a:path>
              <a:path fill="lighten" w="21600" h="26738">
                <a:moveTo>
                  <a:pt x="0" y="267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338"/>
                </a:lnTo>
                <a:close/>
              </a:path>
              <a:path fill="darkenLess" w="21600" h="26738">
                <a:moveTo>
                  <a:pt x="5273" y="6554"/>
                </a:moveTo>
                <a:lnTo>
                  <a:pt x="12271" y="6554"/>
                </a:lnTo>
                <a:lnTo>
                  <a:pt x="16327" y="10053"/>
                </a:lnTo>
                <a:lnTo>
                  <a:pt x="16327" y="20184"/>
                </a:lnTo>
                <a:lnTo>
                  <a:pt x="5273" y="20184"/>
                </a:lnTo>
                <a:close/>
              </a:path>
              <a:path fill="darken" w="21600" h="26738">
                <a:moveTo>
                  <a:pt x="12271" y="6554"/>
                </a:moveTo>
                <a:lnTo>
                  <a:pt x="16327" y="10053"/>
                </a:lnTo>
                <a:lnTo>
                  <a:pt x="12271" y="10053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Zadání žádosti o platbu –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text 3"/>
          <p:cNvSpPr/>
          <p:nvPr/>
        </p:nvSpPr>
        <p:spPr>
          <a:xfrm>
            <a:off x="977760" y="1735200"/>
            <a:ext cx="872964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lkové způsobilé výdaje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22 553,14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ladné úroky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69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cento nepřímých nákladů: 14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žadavek na předfinancování: vše neinve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lačítko akce: Informace 4"/>
          <p:cNvSpPr/>
          <p:nvPr/>
        </p:nvSpPr>
        <p:spPr>
          <a:xfrm>
            <a:off x="8551800" y="5869080"/>
            <a:ext cx="711360" cy="711000"/>
          </a:xfrm>
          <a:custGeom>
            <a:avLst/>
            <a:gdLst>
              <a:gd name="textAreaLeft" fmla="*/ 46080 w 711360"/>
              <a:gd name="textAreaRight" fmla="*/ 665280 w 711360"/>
              <a:gd name="textAreaTop" fmla="*/ 46080 h 711000"/>
              <a:gd name="textAreaBottom" fmla="*/ 664920 h 71100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11" h="21600">
                <a:moveTo>
                  <a:pt x="1080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11" h="21600">
                <a:moveTo>
                  <a:pt x="8229" y="8224"/>
                </a:moveTo>
                <a:lnTo>
                  <a:pt x="12094" y="8224"/>
                </a:lnTo>
                <a:lnTo>
                  <a:pt x="12094" y="15221"/>
                </a:lnTo>
                <a:lnTo>
                  <a:pt x="13382" y="15221"/>
                </a:lnTo>
                <a:lnTo>
                  <a:pt x="13382" y="16144"/>
                </a:lnTo>
                <a:lnTo>
                  <a:pt x="8229" y="16144"/>
                </a:lnTo>
                <a:lnTo>
                  <a:pt x="8229" y="15221"/>
                </a:lnTo>
                <a:lnTo>
                  <a:pt x="9517" y="15221"/>
                </a:lnTo>
                <a:lnTo>
                  <a:pt x="9517" y="9129"/>
                </a:lnTo>
                <a:lnTo>
                  <a:pt x="8229" y="9129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62120" y="3068640"/>
          <a:ext cx="6534000" cy="2044800"/>
        </p:xfrm>
        <a:graphic>
          <a:graphicData uri="http://schemas.openxmlformats.org/drawingml/2006/table">
            <a:tbl>
              <a:tblPr/>
              <a:tblGrid>
                <a:gridCol w="4844880"/>
                <a:gridCol w="1689120"/>
              </a:tblGrid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É ZPŮSOBILÉ VÝDAJE - INVESTIČ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toho křížové - investič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É ZPŮSOBILÉ VÝDAJE - NEINVESTIČ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722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toho křížové - neinvestič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Obdélník 9"/>
          <p:cNvSpPr/>
          <p:nvPr/>
        </p:nvSpPr>
        <p:spPr>
          <a:xfrm rot="21041400">
            <a:off x="461520" y="2873160"/>
            <a:ext cx="1790640" cy="54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Soupiska účetních dokla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40760" y="4002120"/>
          <a:ext cx="1333440" cy="639720"/>
        </p:xfrm>
        <a:graphic>
          <a:graphicData uri="http://schemas.openxmlformats.org/drawingml/2006/table">
            <a:tbl>
              <a:tblPr/>
              <a:tblGrid>
                <a:gridCol w="13334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 úroků </a:t>
                      </a: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553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>Zuzana ujanáková</dc:creator>
  <dc:description/>
  <dc:language>en-US</dc:language>
  <cp:lastModifiedBy>ugh</cp:lastModifiedBy>
  <dcterms:modified xsi:type="dcterms:W3CDTF">2010-09-07T07:48:15Z</dcterms:modified>
  <cp:revision>467</cp:revision>
  <dc:subject/>
  <dc:title>Název PPT </dc:title>
</cp:coreProperties>
</file>